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7890C-3B03-4979-8D0A-17FF6B714FD0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7DB41-C1A1-4FF9-9E00-8BCD213C6635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D1014-4581-4AEB-AB11-1C737947ABDC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E7444-9A9D-4164-BFD4-79CA3AC48A51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1A4DA-0E40-453A-9BDE-7BA0AAF1D07F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06355-C0F7-4BC3-8876-507DAFD2F684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7F4-3666-43D9-9404-27E1D686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ABE-E4D0-4BF7-8A18-CDE2303B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3CA-6FA4-4752-8E85-ECB13762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1DD-F667-4F1D-B248-9E7874F8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776-EAB4-4567-8233-85DD713B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1A4-66D3-4799-BF40-295FE301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90DC-04AB-4D6C-AFDE-FC0436F9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353-5B12-4CEA-9F82-C5B8559F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235D-B748-488D-A54D-10C00F92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DD3-3A8F-4C87-8E1C-BBB0B97A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CC4-8D46-4AFA-971D-F7EDFFD5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A86-1714-4239-9BCF-6DE3E6CD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FB5B-D7C0-4F67-85E9-BB9A44DC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7077-A518-4748-BBA4-032DD7B1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FE84-FF30-48EC-AC7E-FDB19A3B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C739-6032-4BED-AE28-8ED98988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AE35-4670-4DA7-BEF7-F71CEC90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5118-FFE5-4A63-B60A-D658D067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B836-9C78-4E92-A8FF-2A86158D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B8AC-8C73-4789-AB12-15371847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D619-D1D2-457E-9E19-96E28AEC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23E8-D243-4800-ABA6-57ADF041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0B05-1AB1-4D61-969C-33740716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22D7-6FA7-46AE-901A-3739D68C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4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4105-E8C2-4E9F-BB55-6617AF388524}" type="slidenum">
              <a:rPr b="0" lang="pt-PT" sz="18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9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90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A084-F35F-471A-A985-ACC79158F549}" type="slidenum">
              <a:rPr b="0" lang="pt-PT" sz="18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51672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30937"/>
                </a:solidFill>
                <a:latin typeface="Arial"/>
              </a:rPr>
              <a:t>Lastragem e pneus</a:t>
            </a:r>
            <a:endParaRPr b="1" lang="en-US" sz="4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3573360"/>
            <a:ext cx="487044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Objecto 1"/>
          <p:cNvGraphicFramePr/>
          <p:nvPr/>
        </p:nvGraphicFramePr>
        <p:xfrm>
          <a:off x="6516720" y="3422520"/>
          <a:ext cx="1876320" cy="28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Objecto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720" y="3422520"/>
                    <a:ext cx="187632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2438280" y="1600200"/>
            <a:ext cx="5410440" cy="36576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808080"/>
                </a:solidFill>
                <a:latin typeface="Lucida Sans Unicode"/>
              </a:rPr>
              <a:t>VAMOS CONHECER UM PNEU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VEJAMOS UM PNEU EM CORT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Banda de rolament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Lonas ou telas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Talões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Bojo ou flanc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5229360" y="1981080"/>
          <a:ext cx="2646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9360" y="1981080"/>
                    <a:ext cx="2646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88840" y="836640"/>
            <a:ext cx="7715520" cy="14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S PNEUS PODEM CLASSIFICAR-SE PELA SUA ESTRUTURA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PNEU RADIAL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PNEU DIAGONAL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284720" y="2276640"/>
            <a:ext cx="2101680" cy="31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Objecto 1"/>
          <p:cNvGraphicFramePr/>
          <p:nvPr/>
        </p:nvGraphicFramePr>
        <p:xfrm>
          <a:off x="6948360" y="2421000"/>
          <a:ext cx="2062440" cy="31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o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2421000"/>
                    <a:ext cx="206244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Diagon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BANDA DE ROLAMENTO ESTÁ SOLIDÁRIA COM OS FLANCOS,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 </a:t>
            </a:r>
            <a:r>
              <a:rPr b="0" i="1" lang="pt-PT" sz="2800" spc="-1" strike="noStrike">
                <a:solidFill>
                  <a:srgbClr val="030937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Diagon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Fricção com o sol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Desgaste mais rápid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Menor aderência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Consumo de combustível mais elevad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Radi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s flexões não são transmitidas à banda de rolament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30937"/>
              </a:buClr>
              <a:buFont typeface="Swis721 BdOul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30937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Radi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Diminui a compactação do sol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Reduz a patinagem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umenta a produtividade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Diminui o consum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Melhora o conforto e a flexibilidade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NO FLANCO DO PNEU, ENCONTRAMOS ALGUNS NÚMEROS E LETRAS QUE IDENTIFICAM AS MEDIDAS DE UM PNEU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685800" y="3027240"/>
            <a:ext cx="3809880" cy="20210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MEDIDAS DE UM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MEDIDAS DE UM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O Primeiro número  que encontramos identifica a largura total do pneu (em mms ou polegadas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 rot="19832400">
            <a:off x="990720" y="38858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190760" cy="3938760"/>
          </a:xfrm>
          <a:prstGeom prst="rect">
            <a:avLst/>
          </a:prstGeom>
          <a:ln w="0">
            <a:noFill/>
          </a:ln>
        </p:spPr>
      </p:pic>
      <p:sp>
        <p:nvSpPr>
          <p:cNvPr id="197" name="Oval 6"/>
          <p:cNvSpPr/>
          <p:nvPr/>
        </p:nvSpPr>
        <p:spPr>
          <a:xfrm rot="978600">
            <a:off x="1904760" y="4648320"/>
            <a:ext cx="30456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Line 7"/>
          <p:cNvSpPr/>
          <p:nvPr/>
        </p:nvSpPr>
        <p:spPr>
          <a:xfrm flipH="1" flipV="1">
            <a:off x="2437920" y="4571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O 2º número identifica a série do pneu, ou seja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relação que existe entre a altura do flanco e a largura total do pneu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 rot="912600">
            <a:off x="1904760" y="4724280"/>
            <a:ext cx="30456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Line 5"/>
          <p:cNvSpPr/>
          <p:nvPr/>
        </p:nvSpPr>
        <p:spPr>
          <a:xfrm flipH="1" flipV="1">
            <a:off x="2666880" y="43430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zoom dir="in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9640" y="1988640"/>
            <a:ext cx="8454960" cy="35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Consiste na adição de peso ao tractor com dois objetivos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- </a:t>
            </a: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Possibilitar a melhoria da aderência ao solo;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- </a:t>
            </a: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Permitir um melhor equilíbrio do tractor, facilitando assim a transferência de peso.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A lastragem pode ser feita pela colocação de pesos ou pela adição de água nas rodas traseiras do trac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A colocação de pesos pode ser feita nas rodas do tractor, na parte dianteira e ainda no sistema de levantamento hidráulico traseir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O último nº identifica o diâmetro da jante (em polegadas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685800" y="224784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206" name="Oval 4"/>
          <p:cNvSpPr/>
          <p:nvPr/>
        </p:nvSpPr>
        <p:spPr>
          <a:xfrm rot="491400">
            <a:off x="1904760" y="4724280"/>
            <a:ext cx="38088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Line 5"/>
          <p:cNvSpPr/>
          <p:nvPr/>
        </p:nvSpPr>
        <p:spPr>
          <a:xfrm flipH="1" flipV="1">
            <a:off x="2971440" y="4038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MEDIDAS DE UM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É um dado importante, que está directamente ligado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1- À velocidade máxima a que pode circular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2-À carga que pode suportar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ambém é possível conhecê-la nos números identificados no pneu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capacidade de carga é-nos dada por um número (146) que figura numa tabela universal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648320" y="3027240"/>
            <a:ext cx="3809880" cy="2230560"/>
          </a:xfrm>
          <a:prstGeom prst="rect">
            <a:avLst/>
          </a:prstGeom>
          <a:ln w="0">
            <a:noFill/>
          </a:ln>
        </p:spPr>
      </p:pic>
      <p:sp>
        <p:nvSpPr>
          <p:cNvPr id="216" name="Line 5"/>
          <p:cNvSpPr/>
          <p:nvPr/>
        </p:nvSpPr>
        <p:spPr>
          <a:xfrm>
            <a:off x="7238880" y="3809880"/>
            <a:ext cx="763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velocidade máxima a que deve rodar é identificada por uma letra conjugada com um nº (A 8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95680" cy="2631960"/>
          </a:xfrm>
          <a:prstGeom prst="rect">
            <a:avLst/>
          </a:prstGeom>
          <a:ln w="0">
            <a:noFill/>
          </a:ln>
        </p:spPr>
      </p:pic>
      <p:sp>
        <p:nvSpPr>
          <p:cNvPr id="220" name="Line 5"/>
          <p:cNvSpPr/>
          <p:nvPr/>
        </p:nvSpPr>
        <p:spPr>
          <a:xfrm flipH="1">
            <a:off x="3733920" y="3581280"/>
            <a:ext cx="38088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resistência pode ainda aparecer no pneu identificado pelas letras </a:t>
            </a:r>
            <a:r>
              <a:rPr b="0" lang="pt-PT" sz="2800" spc="-1" strike="noStrike">
                <a:solidFill>
                  <a:srgbClr val="030937"/>
                </a:solidFill>
                <a:latin typeface="Futura XBlk BT"/>
              </a:rPr>
              <a:t>PR</a:t>
            </a: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 seguidas de um número que identifica o nº de camadas de lona do pneu (PR 8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572000" cy="2676240"/>
          </a:xfrm>
          <a:prstGeom prst="rect">
            <a:avLst/>
          </a:prstGeom>
          <a:ln w="0">
            <a:noFill/>
          </a:ln>
        </p:spPr>
      </p:pic>
      <p:sp>
        <p:nvSpPr>
          <p:cNvPr id="224" name="Oval 5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Text Box 6"/>
          <p:cNvSpPr/>
          <p:nvPr/>
        </p:nvSpPr>
        <p:spPr>
          <a:xfrm rot="2345400">
            <a:off x="3351600" y="36572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PR 8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276720" y="35053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657600" y="396252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3048120" y="3276720"/>
            <a:ext cx="304560" cy="30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Line 10"/>
          <p:cNvSpPr/>
          <p:nvPr/>
        </p:nvSpPr>
        <p:spPr>
          <a:xfrm flipH="1">
            <a:off x="3733920" y="3505320"/>
            <a:ext cx="380880" cy="22860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úvidas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 frente do trator 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8254800" cy="3705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 retaguarda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7996320" cy="3751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s rodas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6816960" cy="3687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s rodas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262080" y="1819440"/>
            <a:ext cx="8486640" cy="4116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30937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Script MT Bold"/>
              </a:rPr>
              <a:t>De nada serve ter muita potência no motor, se houver muita patinagem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30937"/>
              </a:buClr>
              <a:buFont typeface="Vinet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Vineta BT"/>
              </a:rPr>
              <a:t>Escolha o pneu cert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58" name="Picture 3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4648320" y="2301840"/>
            <a:ext cx="3809880" cy="34718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4"/>
          <p:cNvSpPr/>
          <p:nvPr/>
        </p:nvSpPr>
        <p:spPr>
          <a:xfrm>
            <a:off x="1523880" y="762120"/>
            <a:ext cx="6934320" cy="1295280"/>
          </a:xfrm>
          <a:prstGeom prst="wedgeEllipseCallout">
            <a:avLst>
              <a:gd name="adj1" fmla="val 2587"/>
              <a:gd name="adj2" fmla="val 237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POTÊNCIA DO MOTOR TEM QUE SER TRANSMITIDA AO SOL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FUNÇÕES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uportar a carg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ransmitir as forças de aceleração e travagem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irigir o veícul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articipar na suspensão e no confort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articipar na estabilidade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ransmitir informaçã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sumir a menor energia possí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62" name="Picture 4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5486400" y="1981080"/>
            <a:ext cx="3200400" cy="2916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S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ARACTERIZAÇÃO DOS VÁRIOS TIPOS DE PNEUS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EDIDAS DOS PNEUS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ESISTÊNCIA DE UM PNEU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itor Miguel Figueiredo</cp:lastModifiedBy>
  <cp:lastPrinted>2017-03-20T14:39:16Z</cp:lastPrinted>
  <dcterms:modified xsi:type="dcterms:W3CDTF">2017-03-20T14:39:43Z</dcterms:modified>
  <cp:revision>374</cp:revision>
  <dc:subject/>
  <dc:title>Slide 1</dc:title>
</cp:coreProperties>
</file>